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5BC-FBD9-40C0-B2CB-DF3955F3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A67-BC0A-4D23-B1D7-EC8BF3D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E95-82DE-4758-B28C-CF49FD6B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54C-269D-42C9-891E-FE38E245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4FD0-DFDC-40B6-9D5E-FBE9D37E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833-218E-45E4-AB3A-ADF8615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248-EA00-4F1F-B332-863E719D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0BF-2058-4048-B91D-735B683B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483-69FC-49A0-B6A5-E667769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20E4-532D-4709-9D20-99ADD48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C8CD-6ED1-4CAB-AC2C-EE1FFCA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20C-B872-457B-AECB-EE586E0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275-A409-4617-893D-2915B9C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5182-AB6B-4A8E-B122-81DD11B2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40C-3F89-4116-BB8A-2F62BCF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83B-7301-4BBA-B288-32D7D22C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2D66-79D2-41BF-8E23-C06671D5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D58-B566-46B1-AD78-D635B10B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49D-51FF-4B43-8977-748E3DC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B7E-E2F9-4A9A-B05D-EA0C59AF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BF3-9F00-47EA-B969-808B6C6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8F2-3AB6-4F40-83CD-D36AD1A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34E-4717-46C9-A6BA-7B800DF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35-DEC1-434A-A6C8-A0B2F3EC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2BD2-F3FD-47E5-BDA2-9AA1C87006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839-072F-4790-9247-F2532B26B8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 Rounded MT Bold"/>
              </a:rPr>
              <a:t>PARALELIPIPEDUL DREPTUNGHIC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brudan Da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delean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Mădăl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adea Crist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Comic Sans MS"/>
              </a:rPr>
              <a:t>Def:Este prisma care are 2 baze dreptunghiuri congruente şi situate în plane paralele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982880"/>
            <a:ext cx="604872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5545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2 baze dreptungice ega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fe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e laterale,cele opuse egale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-muchiile bazelor L,l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-muchi laterale 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34920" y="549360"/>
            <a:ext cx="4746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19272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316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19640" y="259920"/>
            <a:ext cx="31622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2(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h+l·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=L·l·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2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113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6229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r>
              <a:rPr b="0" lang="ro-RO" sz="56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În paralipipedul dreptunghic ABCD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B’C’D’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dau AB=6cm,BC=16cm D’M=26cm,unde M este mijlocul muchiei [BC].S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ă se determine volumul paralipiped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Culegere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,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Matematică pentru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valuarea natională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”  pg.149 Varianta 17 Subiectu al II-lea ex.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0:21:59Z</dcterms:created>
  <dc:creator>xxx</dc:creator>
  <dc:description/>
  <dc:language>en-US</dc:language>
  <cp:lastModifiedBy>user</cp:lastModifiedBy>
  <dcterms:modified xsi:type="dcterms:W3CDTF">2011-02-14T13:13:39Z</dcterms:modified>
  <cp:revision>4</cp:revision>
  <dc:subject/>
  <dc:title>PARALELIPIPEDUL DREPTUNGHIC</dc:title>
</cp:coreProperties>
</file>